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B44-2B70-4267-8277-B1B37100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8B6-BB5D-4E79-B946-72FA0090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46D-ADF4-47B3-AB5C-7DE642D7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897-DFCA-4B50-BA74-0D6F1ACC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689-6C32-4047-AA56-A3123245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D35-8AF5-43C9-A85A-961344B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B99-BB36-47A0-847E-78C5885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A7D-E466-4561-8E65-EF35AA8A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C09-1431-4A17-8669-E354B415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275-7A99-4508-8A02-B3A9080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3A8-738A-47DA-873D-97E9F17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7CF-F92B-418D-9167-B160151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7C1-F1FD-4DD6-BBA9-E404F342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ttle_of_Belmont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33520"/>
            <a:ext cx="6966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Battle of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elmon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23760" y="61722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Alyssa Bartle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752840" cy="105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2716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60" y="1371600"/>
            <a:ext cx="842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l for the North was Ulysses S. Gr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first combat test in the American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for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red off with about 3,000 men and lost 6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rant lead his troops 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derate camp and destroye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23372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560" y="185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l for the south was Gideon J. Pi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rted off with over 5,000 men and lost 64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rant attacked them the Confederate forces quickly reorganized and were reinforced from Columb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Grant retreated and took his troop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ucah, Kentuck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thought they won the battle, and the north thought they won the b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304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524240" cy="88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50496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Of Belmo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962520" cy="27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0" y="1905120"/>
            <a:ext cx="922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Battle_of_Bel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ivilwar.n2genealogy.com/battles/61110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1:29:59Z</dcterms:created>
  <dc:creator>Mark Bartlett</dc:creator>
  <dc:description/>
  <dc:language>en-US</dc:language>
  <cp:lastModifiedBy>Mark Bartlett</cp:lastModifiedBy>
  <dcterms:modified xsi:type="dcterms:W3CDTF">2011-09-15T21:16:25Z</dcterms:modified>
  <cp:revision>6</cp:revision>
  <dc:subject/>
  <dc:title>The Battle of Belmont</dc:title>
</cp:coreProperties>
</file>